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1B800-B8CC-4DAA-BD41-4D902F68A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E1D3A-BF53-4013-9E7F-E7B5C50CB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AC89F-FFFE-4203-9842-F6622B315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A731D-3EC1-4693-82C8-EB79F62D4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DB04-F8F5-4F14-8784-D6315DEE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70471-14AB-44F6-8C51-6C3D0553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38BD-62CF-4DBC-A5F1-3B1CA81B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B87A-6AF7-4BA7-93D6-DE9FEDA5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5B3A-0397-464D-A044-5D7684DF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ECD0-C1AE-43B0-859C-1CE1BEDE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4E27-0EC7-460E-8FFD-6BB860F93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FDFC-1898-49F4-9664-7985D1F0A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2804-5EE6-42D4-AE8D-9B552C89A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9" dur="5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100"/>
                                        <p:tgtEl>
                                          <p:spTgt spid="55">
                                            <p:txEl>
                                              <p:pRg st="2" end="2"/>
                                            </p:txEl>
                                          </p:spTgt>
                                        </p:tgtEl>
                                      </p:cBhvr>
                                    </p:animEffect>
                                    <p:anim calcmode="lin" valueType="num">
                                      <p:cBhvr additive="repl">
                                        <p:cTn id="85"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7"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