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7461B-E608-4672-AD09-9FDCBE654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B5D2D-A167-4F01-BFEF-60943C1C0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A5A04-D7AB-4ED5-BD04-C9FC6F7AC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7A688-2F1A-4832-8717-326FA7D35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A1980-3E93-4DD9-A939-577B4F49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2122-E000-431E-823E-B965C25F3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08F35-1783-4FF4-BA6F-3218F1127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624E8-1DB0-499E-8280-F887D1151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1FC7-034A-445D-9E39-A9D6F3A0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C8FB-77E1-494B-9B4B-F433B267A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CDE2-4134-4B2A-B3E4-D7D75C551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7977C-770A-43C2-B153-B23EDBC69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4DDD-5CB9-4447-B3B6-9F05A486A6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randombar(vertical)"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anim calcmode="lin" valueType="num">
                                      <p:cBhvr additive="repl">
                                        <p:cTn id="91"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2"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