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E2BFB-260B-433B-B00E-14610352D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FB05-EE2C-437B-B8D0-6EB6741E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9CD57-1127-4A7D-BEE1-87C7EA4DD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261B0-04C8-4C0F-8D81-05759C0BC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9267-DD04-44F6-9D10-EAC35F41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CE8F-346E-4A58-A893-565FA151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7571-3056-40A6-9561-EC4ECFFE4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D281-4B25-4FFD-A5EF-175808DC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CA9A-35F7-4EF4-B655-1BDDD17B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F7EE-B322-4408-BB28-3CE2E2CB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B1804-8A4F-449C-8A67-89972101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FD57-66E0-4041-890D-B8F6966BA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5B32-25B9-4563-8C49-FC646A43A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Scale>
                                      <p:cBhvr>
                                        <p:cTn id="88"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55">
                                            <p:txEl>
                                              <p:pRg st="3" end="3"/>
                                            </p:txEl>
                                          </p:spTgt>
                                        </p:tgtEl>
                                      </p:cBhvr>
                                    </p:animMotion>
                                    <p:animEffect filter="fade" transition="in">
                                      <p:cBhvr additive="repl">
                                        <p:cTn id="90" dur="1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