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4CE39-F25E-4B1F-835B-634AF9195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AB54-80A6-44EE-9829-A5302D16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B4335-C6EF-4904-9F22-D138AB6B6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1645D-1222-4CEF-8FE2-6941780D6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57BE1-37E4-46C0-A29B-CF1B889F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CE99E-EAC6-42EC-A14D-8D4357CFB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5D527-72FA-4834-9B35-F8DA306D5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DD97-5B11-479E-8B0F-50F423065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EC67E-3502-41DC-BF0A-CDD1F7809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F4F75-B72D-4078-8DA5-91F7F9AF9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DE39-0910-42BB-AAC7-65420099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E6E16-74F5-49B2-9953-5D694B5A2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C6B0-CD78-47B3-ADA0-1286F5406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000">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3"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4">
                                  <p:stCondLst>
                                    <p:cond delay="0"/>
                                  </p:stCondLst>
                                  <p:childTnLst>
                                    <p:set>
                                      <p:cBhvr>
                                        <p:cTn id="87" dur="1" fill="hold">
                                          <p:stCondLst>
                                            <p:cond delay="0"/>
                                          </p:stCondLst>
                                        </p:cTn>
                                        <p:tgtEl>
                                          <p:spTgt spid="55">
                                            <p:txEl>
                                              <p:pRg st="3" end="3"/>
                                            </p:txEl>
                                          </p:spTgt>
                                        </p:tgtEl>
                                        <p:attrNameLst>
                                          <p:attrName>style.visibility</p:attrName>
                                        </p:attrNameLst>
                                      </p:cBhvr>
                                      <p:to>
                                        <p:strVal val="visible"/>
                                      </p:to>
                                    </p:set>
                                    <p:anim calcmode="lin" valueType="num">
                                      <p:cBhvr additive="repl">
                                        <p:cTn id="88"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89"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