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9EE20-41CF-4ABE-9E9B-87727F0AD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5178D-1076-4095-93E3-A410927F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D1140-1275-4CD9-A7CC-66BF01A3C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31B19-94E2-4C19-B884-2682E5EC7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2CB7-D036-460E-926A-F175D171F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DA5DA-F7E4-413A-81A0-FAE0129B2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5B68B-7B51-4B41-B712-C7429D723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77E9D-7CB5-4F3B-95FC-023B453A5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04BF9-D9B1-49C2-9292-25CFC13F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4048-A621-46D6-BC4A-99E76EB5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98ED-C332-4622-B1CF-C5FD37C9F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99BC-AD62-4832-88CA-694195EBD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F165-5EFE-46DB-9120-8BA781372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2/3*#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6"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800"/>
                                        <p:tgtEl>
                                          <p:spTgt spid="55">
                                            <p:txEl>
                                              <p:pRg st="3" end="3"/>
                                            </p:txEl>
                                          </p:spTgt>
                                        </p:tgtEl>
                                      </p:cBhvr>
                                    </p:animEffect>
                                    <p:anim calcmode="lin" valueType="num">
                                      <p:cBhvr additive="repl">
                                        <p:cTn id="94"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5"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6"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