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E96A1-323D-4D9F-9D93-58AAE0035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D2DF1-1F39-4C81-A430-CFECCD096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10593-013F-4242-A365-00A97F960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F20B7-65A7-40C8-94D9-8D177114C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D3A5E-1EE9-4CC4-84DD-BA429D9F6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38E73-AB78-4476-BD49-F8CB77B95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4B066-3C1D-4A06-9B5B-A701E1CFF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BF6D7-DFE1-4A86-9452-5468BE724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49BCC-CCBB-4F2A-8A05-EB812D81B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A4A49-6A48-46C3-89FE-A82AC1CBA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89355-3365-42B8-959C-171444305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8D886-79B0-4C74-95B4-B40334764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4D16-06E4-4ACA-8D20-F92AFB3962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blinds(vertical)"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wheel(3)" transition="in">
                                      <p:cBhvr additive="repl">
                                        <p:cTn id="90" dur="2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