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9227F-6296-4B06-8C83-EDF2A400E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E7008-0FF9-4F64-968A-A47911199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A2418-77A1-4A6F-A632-761BDADE2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AEF01-369B-443B-99FB-4F4258A69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6B82B-3F09-4BD6-944F-1818C5C9C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9E052-C7CA-4232-842A-161AF8092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7817C-C57B-45CF-B73A-FD3E44909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7401A-B1B7-4565-9A79-EF63A8297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5DB54-B59E-4445-9612-8DDB3C778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911A3-8B52-4F49-BAEF-D769FCE3A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28E4F-ED20-4755-B141-D3D63E987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0FC00-479B-4A4B-B89C-1693D86B5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1F03F-0616-4D67-92D7-8E5081DA9E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randombar(horizont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wheel(4)" transition="in">
                                      <p:cBhvr additive="repl">
                                        <p:cTn id="90" dur="2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