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2D4C7-3EEE-4FEC-A307-C3BEC14D6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BE443-F38F-4418-810B-788F4337E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8410C-D27F-48A2-B0D3-13988E6C0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46011-D425-4BB9-8EA5-AB0B6C35B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57E30-965B-42EC-BF6F-960A29553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F3BCE-6099-4415-A320-3B74D0B96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2431-392B-45FE-9B29-B7C9D9F95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24392-23E5-4E99-8858-52B817DE6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D2BBB-6B2A-4055-96CF-2DBD7FFD7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7C9CC-A2FE-40EC-A42E-630E3E00F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9E90-B2EF-4046-AA42-EF4C4664B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3C118-82A5-4B6C-AC80-8B1452141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ACCA-6C4A-4973-8DB8-39B543A4C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1000"/>
                                        <p:tgtEl>
                                          <p:spTgt spid="55">
                                            <p:txEl>
                                              <p:pRg st="2" end="2"/>
                                            </p:txEl>
                                          </p:spTgt>
                                        </p:tgtEl>
                                      </p:cBhvr>
                                    </p:animEffect>
                                    <p:anim calcmode="lin" valueType="num">
                                      <p:cBhvr additive="repl">
                                        <p:cTn id="88"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randombar(horizontal)"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