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69084-C902-4BD4-8613-13EB6D544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FB855-E75C-4DB8-8EA7-4A715A6B7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3DAAB-931D-47A6-8CCD-549DDD31F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C51DB-FE1C-45A0-9C94-9BC6D3EF7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A9E04-BE16-453B-B423-EAD822A2D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3B5E0-8E70-40C6-B91E-6BFE9D523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E5B13-38E3-4193-AEA4-385400272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3A683-8A8E-4A5E-A76B-489D73D06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45184-C8FB-4A02-A605-CB902DF75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36B10-E871-49D0-B94D-418278AFD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43DE5-0D42-42A7-B0D9-ABB794D50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6ADC2-122C-4528-87CA-126F4FCA1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E27B-2A38-4AA5-9B8E-D5E2107DA2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ox(in)"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repl">
                                        <p:cTn id="84"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5000" fill="hold"/>
                                        <p:tgtEl>
                                          <p:spTgt spid="55">
                                            <p:txEl>
                                              <p:pRg st="3" end="3"/>
                                            </p:txEl>
                                          </p:spTgt>
                                        </p:tgtEl>
                                        <p:attrNameLst>
                                          <p:attrName>ppt_w</p:attrName>
                                        </p:attrNameLst>
                                      </p:cBhvr>
                                      <p:tavLst>
                                        <p:tav tm="0">
                                          <p:val>
                                            <p:strVal val="#ppt_w"/>
                                          </p:val>
                                        </p:tav>
                                        <p:tav tm="100000">
                                          <p:val>
                                            <p:strVal val="#ppt_w"/>
                                          </p:val>
                                        </p:tav>
                                      </p:tavLst>
                                    </p:anim>
                                    <p:anim calcmode="lin" valueType="num">
                                      <p:cBhvr additive="repl">
                                        <p:cTn id="90" dur="5000" fill="hold"/>
                                        <p:tgtEl>
                                          <p:spTgt spid="55">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