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FCF7E-EFB4-4C0B-B0C6-A6E1A8266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07537-0ECD-4E39-B61F-ED8D76CF6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C5443-3560-4386-8D44-987F181D6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F6B55-01DE-4016-B945-707BFC62B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5BD72-26BA-4800-B9AF-BB87AE573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032B3-34F2-47E7-B6C3-1D4CBF885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B02B6-7F35-4BE5-B16D-468CEFFDB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C6FC1-592E-44D1-80F1-52E2263CD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9306F-D156-4A65-8473-78C27D663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934B8-8959-46E7-9BE7-7D136E3A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9C3C6-0F49-4F74-8687-3B0FEF198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34735-4180-48C1-ADC2-83BC828FC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B324-6D01-4D4B-AB0A-B148D23D8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Effect filter="diamond(out)" transition="in">
                                      <p:cBhvr additive="repl">
                                        <p:cTn id="88" dur="2000"/>
                                        <p:tgtEl>
                                          <p:spTgt spid="55">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