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67801-7A07-4FB2-8B0B-E45B8FB58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FEE30-D66B-4617-B7FA-91B3130F9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4E5A8-49A9-43A6-97F1-213F85EB5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D1DE3-728D-4388-BBE5-2CB0631B3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67C1B-CBAA-4572-9E55-9A40E0465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1ECC3-4D49-4BE6-9673-0EB245B3C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EDEB7-03E0-4EDA-A043-7AE06C22C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79491-C7B5-4887-AFB0-DBC67E7B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3B088-CA57-43B9-91C6-E17DAA102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9A4D-85B1-4718-97F5-17B8315B2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EC5F3-804F-49F4-9143-03A619CA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03459-A5F9-489B-9F60-73DC5ADAF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B308-B345-401C-9541-C13093BC1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Scale>
                                      <p:cBhvr>
                                        <p:cTn id="83"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55">
                                            <p:txEl>
                                              <p:pRg st="2" end="2"/>
                                            </p:txEl>
                                          </p:spTgt>
                                        </p:tgtEl>
                                      </p:cBhvr>
                                    </p:animMotion>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2/3*#ppt_w"/>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