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90AB5-9701-497C-B4CD-D6E3F15F3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1E482-FD83-478C-9495-CEB5EA7F7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BAC40-3565-43E1-A3CA-3292FCED6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F4479-E93C-4464-A0CE-4DB89F267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D1A9B-5C0E-497C-A4DC-781645B6C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7B575-FA24-4C0A-9416-7A950E61C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3BC31-4247-4451-AE52-CA5EFC450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63FBF-41DF-404F-AD8B-02F0AE829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AE4E6-D0BC-49EF-BAF1-FFB6CFFE3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2FCAF-7A14-467E-B3F9-B30E460D9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5B4C1-98E6-4D0D-AC04-59F8FCED2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462B2-12A5-4561-A7D6-7384BAED3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C60A-C6F5-49ED-882C-A40998AB9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0" fill="hold"/>
                                        <p:tgtEl>
                                          <p:spTgt spid="55">
                                            <p:txEl>
                                              <p:pRg st="2" end="2"/>
                                            </p:txEl>
                                          </p:spTgt>
                                        </p:tgtEl>
                                        <p:attrNameLst>
                                          <p:attrName>ppt_w</p:attrName>
                                        </p:attrNameLst>
                                      </p:cBhvr>
                                      <p:tavLst>
                                        <p:tav tm="0">
                                          <p:val>
                                            <p:strVal val="#ppt_w"/>
                                          </p:val>
                                        </p:tav>
                                        <p:tav tm="100000">
                                          <p:val>
                                            <p:strVal val="#ppt_w"/>
                                          </p:val>
                                        </p:tav>
                                      </p:tavLst>
                                    </p:anim>
                                    <p:anim calcmode="lin" valueType="num">
                                      <p:cBhvr additive="repl">
                                        <p:cTn id="84" dur="5000" fill="hold"/>
                                        <p:tgtEl>
                                          <p:spTgt spid="5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0"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1"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