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1D47E-DC77-42DF-A704-270002510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AB96F-2C95-4D92-AD3F-E2A2289AA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61883-C40E-4E77-B1CD-80B4E64D5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BBE1B-C10F-4FC0-9286-A34F31D7C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39DF3-CD74-4B3F-9A92-71DD44A1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F98CD-0FEC-48D5-8F0E-DF6FFA1C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F711-6838-4336-BF73-FB2B05B95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6EE6-F4FF-4F9B-BC7E-780FF6DAD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F327-1AD8-4D17-96BF-CDC8C3CBD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EBAA-3D2B-4014-B934-7523C6D5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803E-2821-4C4F-A17D-2254112D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0114-FA98-417E-92C5-FA68B1186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6E43-077B-4841-898D-D0435497E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ppt_x</p:attrName>
                                        </p:attrNameLst>
                                      </p:cBhvr>
                                      <p:tavLst>
                                        <p:tav tm="0">
                                          <p:val>
                                            <p:strVal val="0.5"/>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