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52DB7-266E-4213-9AB2-625FB251D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7406D-DD50-4043-86A8-BCDF747C7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F27EA-E350-49D7-8A43-8BD642350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EA30B-9C63-41B1-A5B1-CFB9F2539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C36FA-64D5-46BB-B71D-21AB2F822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60F6D-0926-4C93-834E-2DD6AA347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E1D4A-34DB-41DB-A738-C42633F1B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F9B86-C7DD-44C9-AB47-31F94B336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8B538-8C28-41D4-9E42-A6EEDAAD6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988E7-363F-46D1-8C63-50D65D39B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7A3BF-8529-4DC6-A5C7-E74FB3097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789D-6E88-4FF4-8966-5942EEEFB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6940-CC1D-4FBF-A4A5-DC268DEF95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anim calcmode="lin" valueType="num">
                                      <p:cBhvr additive="repl">
                                        <p:cTn id="94"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5"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