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C4F57-5FC5-4EA6-8284-E2C44D904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EA2DE-615A-42BD-8611-6883D9748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56237-F3FE-41B4-9A06-2B9A21FA2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BB27D-2161-4A45-9C8F-6342493E3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67BFC-369B-40B1-B807-170FB4626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19626-458F-4F60-A258-F60BDD7BB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9301D-87E3-480A-A98B-AC2D6E16D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656E5-F0EA-47C7-9EE0-C518431C1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FEA4F-153A-41F7-B509-3209912B3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FEFFD-EAEC-4C58-9341-5BEE1C43B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3B685-006F-4F4F-AC27-8641E8ED4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ED844-FCC7-4DFD-9E53-F77CDB10C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B28A-7FDB-4B4C-BE5F-92C961C27D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randombar(vertic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Scale>
                                      <p:cBhvr>
                                        <p:cTn id="83"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4" dur="1000" fill="hold">
                                          <p:stCondLst>
                                            <p:cond delay="0"/>
                                          </p:stCondLst>
                                        </p:cTn>
                                        <p:tgtEl>
                                          <p:spTgt spid="55">
                                            <p:txEl>
                                              <p:pRg st="2" end="2"/>
                                            </p:txEl>
                                          </p:spTgt>
                                        </p:tgtEl>
                                      </p:cBhvr>
                                    </p:animMotion>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