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4809C-933F-4C68-A045-0043ED4CB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11135-FC88-4C45-AFE6-EC7347597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C0BB8-8E05-4B63-A322-2F66D094B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8F63A-4DDA-4D8E-90C1-2ECA737AF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8E8F3-CA62-4530-9AA9-26D3A445D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35B56-2037-43D8-9B6A-AF4D22C03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6E8C5-D9CD-4591-AABF-744FD4307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333A7-9AFF-468C-8668-3AB243DCE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476A9-B58C-4F7A-90A5-E2D61A5FF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59C2A-3300-4C01-B82D-05CBEA57A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4E3C5-56ED-4E1B-8B78-E79D55CD7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992AF-20DB-4DE7-9430-2CF79C172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4C277-2CA7-4C04-8781-083491D399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set>
                                      <p:cBhvr>
                                        <p:cTn id="83" dur="455" fill="hold">
                                          <p:stCondLst>
                                            <p:cond delay="0"/>
                                          </p:stCondLst>
                                        </p:cTn>
                                        <p:tgtEl>
                                          <p:spTgt spid="55">
                                            <p:txEl>
                                              <p:pRg st="2" end="2"/>
                                            </p:txEl>
                                          </p:spTgt>
                                        </p:tgtEl>
                                        <p:attrNameLst>
                                          <p:attrName>r</p:attrName>
                                        </p:attrNameLst>
                                      </p:cBhvr>
                                      <p:to>
                                        <p:strVal val="-45"/>
                                      </p:to>
                                    </p:set>
                                    <p:anim calcmode="lin" valueType="num">
                                      <p:cBhvr additive="repl">
                                        <p:cTn id="84" dur="455" fill="hold">
                                          <p:stCondLst>
                                            <p:cond delay="455"/>
                                          </p:stCondLst>
                                        </p:cTn>
                                        <p:tgtEl>
                                          <p:spTgt spid="55">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85" dur="455" fill="hold">
                                          <p:stCondLst>
                                            <p:cond delay="0"/>
                                          </p:stCondLst>
                                        </p:cTn>
                                        <p:tgtEl>
                                          <p:spTgt spid="55">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86" dur="156" autoRev="1" fill="hold">
                                          <p:stCondLst>
                                            <p:cond delay="455"/>
                                          </p:stCondLst>
                                        </p:cTn>
                                        <p:tgtEl>
                                          <p:spTgt spid="55">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7" dur="136" fill="hold">
                                          <p:stCondLst>
                                            <p:cond delay="864"/>
                                          </p:stCondLst>
                                        </p:cTn>
                                        <p:tgtEl>
                                          <p:spTgt spid="55">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