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6FE3D-12E4-4ECA-B85A-7C6AD06C8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42A51-2F11-4A50-954B-308E0F587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7E65E-84AB-4D59-B833-B598D783D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D8A37-1780-48D5-986A-889BA79E6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91C27-EE73-4220-BBEB-915EA6E34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7A26-E431-4AAF-963A-2A0835886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4EB86-BD63-4CB7-B856-5FBDB08B2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A874-489B-4AE6-BF5A-DAC0E826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08B9-660B-4D85-93B5-D42E027C8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E886B-E64A-4C6D-A040-BC041002E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9B80-8858-4CC0-8661-E5D70115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A1D5-C7FB-4175-B5ED-6F93D869F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CACC-7711-420C-9278-25EAE320A2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fade" transition="in">
                                      <p:cBhvr additive="repl">
                                        <p:cTn id="82" dur="2000"/>
                                        <p:tgtEl>
                                          <p:spTgt spid="55">
                                            <p:txEl>
                                              <p:pRg st="2" end="2"/>
                                            </p:txEl>
                                          </p:spTgt>
                                        </p:tgtEl>
                                      </p:cBhvr>
                                    </p:animEffect>
                                    <p:anim calcmode="lin" valueType="num">
                                      <p:cBhvr additive="repl">
                                        <p:cTn id="83"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4"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