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61DC2F-2AED-41CF-8941-61A2AD8444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86DB7-74F9-4546-A487-00117AFD0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EE987E-F218-469A-8E72-E4BF3A497A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A2F6A1-1E39-4780-8D91-A32E2B49A8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06309-23CD-48AD-B827-2CACDD81F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765DD-A6EB-493D-B9D8-2578F826D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8FE9A-6D58-4276-B620-387F55E38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35532-CBCE-437E-98CE-7FDF9AC47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AC3DC-CB24-43B5-B11D-B5023724B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3CA5E-114E-4419-A2F2-6B5A83804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BC5BD-94BB-4CE0-A5D0-11DB5A6C4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A25CC-5DF0-4F6E-AC5A-C235094294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0D2A4-EC6D-42B3-B010-1330C40D22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900" fill="hold"/>
                                        <p:tgtEl>
                                          <p:spTgt spid="55">
                                            <p:txEl>
                                              <p:pRg st="1" end="1"/>
                                            </p:txEl>
                                          </p:spTgt>
                                        </p:tgtEl>
                                        <p:attrNameLst>
                                          <p:attrName>ppt_y</p:attrName>
                                        </p:attrNameLst>
                                      </p:cBhvr>
                                      <p:tavLst>
                                        <p:tav tm="0">
                                          <p:val>
                                            <p:strVal val="#ppt_y+1"/>
                                          </p:val>
                                        </p:tav>
                                        <p:tav tm="100000">
                                          <p:val>
                                            <p:strVal val="#ppt_y-.03"/>
                                          </p:val>
                                        </p:tav>
                                      </p:tavLst>
                                    </p:anim>
                                    <p:anim calcmode="lin" valueType="num">
                                      <p:cBhvr additive="repl">
                                        <p:cTn id="81" dur="100" fill="hold">
                                          <p:stCondLst>
                                            <p:cond delay="900"/>
                                          </p:stCondLst>
                                        </p:cTn>
                                        <p:tgtEl>
                                          <p:spTgt spid="5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5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7" dur="5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000">
                                          <p:stCondLst>
                                            <p:cond delay="0"/>
                                          </p:stCondLst>
                                        </p:cTn>
                                        <p:tgtEl>
                                          <p:spTgt spid="55">
                                            <p:txEl>
                                              <p:pRg st="3" end="3"/>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