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5120C-EE98-4074-A8C0-0B0EB67E7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535AF-61EA-400D-9160-28F5219C0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75651-29C0-4762-9C20-05D4D0F5A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6A04A-DEFC-4483-8B7E-B057890F0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DB6F0-9CB6-44E6-9B0E-3C273C046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A92BD-4020-4212-9DF3-33B36B166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60D7A-C52B-497B-A037-CB22AED10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B0849-0CA5-42FD-B856-F47619BC2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B80E1-0B5D-4381-A2CC-389067EEB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B6AE5-CE89-47EC-83B2-53343B57A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6EFF0-0B05-46D7-9373-D163CB5CB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B6C8-3264-4101-B065-4E631CFF9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FE05-90B7-4EAC-BB6A-5DB564AF9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 calcmode="lin" valueType="num">
                                      <p:cBhvr additive="repl">
                                        <p:cTn id="82"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