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B2154-5E64-49C2-8B21-2015908DE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9B190-24E4-408B-A71C-C8A38058F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1CF17-1B6F-47FB-AD04-94969B9CB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6C0D7-851D-4F69-94C4-D1386C41C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3E814-2442-4E31-859A-8E7C6DC72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CADFD-C7DC-4702-987C-D7DDF49C8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5CAD7-A1AA-45B0-BF5A-C3C63F6B2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AEE14-C4F2-4587-99E6-66545A4D4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95558-1DB9-4EC4-850B-3AD1B6599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1AA06-D0DE-4E49-8539-673207646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1368-F721-439F-A151-489255F7C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302F1-5BEC-4B33-B781-EA231068D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C6CD-890C-4579-B691-2732F8E266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discrete" valueType="clr">
                                      <p:cBhvr additive="repl">
                                        <p:cTn id="85"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6" dur="80"/>
                                        <p:tgtEl>
                                          <p:spTgt spid="55">
                                            <p:txEl>
                                              <p:pRg st="2" end="2"/>
                                            </p:txEl>
                                          </p:spTgt>
                                        </p:tgtEl>
                                        <p:attrNameLst>
                                          <p:attrName>fillcolor</p:attrName>
                                        </p:attrNameLst>
                                      </p:cBhvr>
                                      <p:tavLst>
                                        <p:tav tm="0">
                                          <p:val>
                                            <p:strVal val="rgb(-103,51,51)"/>
                                          </p:val>
                                        </p:tav>
                                        <p:tav tm="50000">
                                          <p:val>
                                            <p:strVal val="rgb(-103,-103,0)"/>
                                          </p:val>
                                        </p:tav>
                                      </p:tavLst>
                                    </p:anim>
                                    <p:set>
                                      <p:cBhvr>
                                        <p:cTn id="87" dur="80"/>
                                        <p:tgtEl>
                                          <p:spTgt spid="55">
                                            <p:txEl>
                                              <p:pRg st="2" end="2"/>
                                            </p:txEl>
                                          </p:spTgt>
                                        </p:tgtEl>
                                        <p:attrNameLst>
                                          <p:attrName>fill.type</p:attrName>
                                        </p:attrNameLst>
                                      </p:cBhvr>
                                      <p:to>
                                        <p:strVal val="solid"/>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randombar(horizontal)"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