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607F0-1F24-4BBD-A057-CCF3B4341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0B6F5-964C-4C4A-AE8D-7DAA8473E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F5513-6B4D-4CC0-8552-004AE0270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C20DB-7728-4855-8AEF-E2969F458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2DB5-7408-4559-8A16-C633802E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F427-C810-454E-8B4E-5D393C73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B86D-E64D-4100-A008-C9E082C0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90863-D751-4A34-8DAD-07ADAD07B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E09F-2ACF-4657-B5D9-766F65884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1F1E-66E9-4757-8001-95373AE3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2EB77-507F-4E33-99A6-61456A80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D67D3-6AA7-4695-9A3A-007B881C8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B8F6-D502-4278-95C1-44EE5DDD5F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 calcmode="lin" valueType="num">
                                      <p:cBhvr additive="repl">
                                        <p:cTn id="87"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8"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