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2DAE4-7CC9-429B-BFA7-56E220C90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B454F-F703-4EAF-B886-0E846C507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A2B6C-4690-468A-B972-957C51BF5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7EFDF-ED33-44B8-B965-380837113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E0D2-D2F6-4ECF-9171-7DCD4DFCA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C50D-A4FA-49C4-BF14-548B250F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2D360-1691-405A-8D30-5E5026A0E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A64B5-5364-4EFB-80FD-1202EDC78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BAA50-AD8E-4D7E-A6F6-F2AA16829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3106F-240E-4545-B187-5969072D1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FB66B-4865-4535-BCC8-EBD3C2A01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4FA5-464D-4F9F-B629-C7787B0AB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D0D6-AC95-4B32-BD60-7850140A6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slide(fromRight)" transition="in">
                                      <p:cBhvr additive="repl">
                                        <p:cTn id="90" dur="5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