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0A837-08C4-4BFE-AF05-A961D9CCA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E0A55-4BFA-4CC6-B1FC-F8C51AC94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7F052-61AC-4DA8-8068-9AFAFFD7B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E951B-12A9-430C-8859-EB30B0F79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73C24-AE4E-4303-AD50-28708E7B1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1A5D9-9E4F-4457-BF44-DA84F1C65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7DF31-5747-4F29-AFBD-180DEB0C9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D8276-9831-4FD8-BA9A-F916949E3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BC6B0-1FD1-4B21-82E6-2A750C6FF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DEB0A-444E-4CF0-A24E-0B984C403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D82B4-68D0-4691-8838-ECED1BDC7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23057-7CA2-4FD9-9D1C-43612FB0E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03505-7EBC-45E0-A3FA-445A152E80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4" dur="5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fade" transition="in">
                                      <p:cBhvr additive="repl">
                                        <p:cTn id="89" dur="2000"/>
                                        <p:tgtEl>
                                          <p:spTgt spid="55">
                                            <p:txEl>
                                              <p:pRg st="3" end="3"/>
                                            </p:txEl>
                                          </p:spTgt>
                                        </p:tgtEl>
                                      </p:cBhvr>
                                    </p:animEffect>
                                    <p:anim calcmode="lin" valueType="num">
                                      <p:cBhvr additive="repl">
                                        <p:cTn id="90" dur="2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91" dur="2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2" dur="2000" fill="hold"/>
                                        <p:tgtEl>
                                          <p:spTgt spid="55">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