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8BFFC-80A0-4A47-A307-AB5C54EBB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6846B-86F6-4AAB-B95E-581FB09BE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42892-2513-4571-9AFD-B8B874DA0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389B4-3E14-41A0-8B09-6B66A3D34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A3DBA-9AB9-4FA8-A548-FC2E1C544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CD3CA-38EF-4763-8002-D6D4F6602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78DD5-8502-4B48-A44B-A6A772CCD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78F62-070A-49D3-96EB-086085C12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7E50-4068-4C75-9315-1A3E93D80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2E2CD-4743-4AE4-B5A1-7DB67A615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3A3E-8222-4B06-93A0-BFF6D687E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89CC9-D0F2-4279-A609-B160D3534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DF50-D995-41CD-B4A2-3E80C2F400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repl">
                                        <p:cTn id="79" dur="5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 fill="hold"/>
                                        <p:tgtEl>
                                          <p:spTgt spid="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6" dur="500" fill="hold"/>
                                        <p:tgtEl>
                                          <p:spTgt spid="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 dur="500" fill="hold"/>
                                        <p:tgtEl>
                                          <p:spTgt spid="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barn(inVertical)"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