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F11A9-C152-4891-BC7F-DACA3DDBD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23A68-AD43-4B6E-A748-2E7E0F84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EA649-AA52-4158-8AF9-AF5525558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24371-856E-4C3C-966C-BED09F4EA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1E9C-0C96-46FA-B29B-1B91BB1A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BA3A-530A-410D-A394-08FB768D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085BC-3583-4A37-8766-74044623F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F421A-E324-4969-9869-4BEB8E89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7208-84A7-48A3-94C0-C3DD060A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D6CE-6641-44AF-98B0-9B69B088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333B4-0F0B-4629-BA95-D7D64545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F5D7-636F-4CC7-9A5C-072C3EF05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8EF6-48E0-4BE3-B024-DC0CFCE78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
                                        <p:tgtEl>
                                          <p:spTgt spid="55">
                                            <p:txEl>
                                              <p:pRg st="3" end="3"/>
                                            </p:txEl>
                                          </p:spTgt>
                                        </p:tgtEl>
                                      </p:cBhvr>
                                    </p:animEffect>
                                    <p:anim calcmode="lin" valueType="num">
                                      <p:cBhvr additive="repl">
                                        <p:cTn id="93"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5"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