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7687D-B66E-4892-BCAF-638D4A669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5120-B032-4028-8A50-BF0E886A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88C5E-E290-4F94-BF88-7E8880E52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EFDB1-4B5B-46ED-9020-7CAC79462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734C-7D05-4A31-A777-9D80C4455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777B4-7DED-4A16-84AF-34C4A4437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0604-6F04-452B-9482-DDC7E7686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EDA1-FDE2-4C92-9DD2-0EAF0D061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FCC2-7AE7-4047-9E81-42278EE6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5DF9-9133-43E3-BD4E-02291B43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3450-C2E1-4F0C-9C6B-EF34F94A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6E07-9994-4F79-AD3D-863050CB8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8B23-AF33-4C34-8178-1C4BC2E49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800"/>
                                        <p:tgtEl>
                                          <p:spTgt spid="55">
                                            <p:txEl>
                                              <p:pRg st="3" end="3"/>
                                            </p:txEl>
                                          </p:spTgt>
                                        </p:tgtEl>
                                      </p:cBhvr>
                                    </p:animEffect>
                                    <p:anim calcmode="lin" valueType="num">
                                      <p:cBhvr additive="repl">
                                        <p:cTn id="95"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6"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