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4D09C-81BB-4D20-BA96-8CA9A4D38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ADE08-ABAC-46C2-A94C-5846EE459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9D4D1-A310-41E1-B549-E61A7563F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21EAC-62CF-4F6C-90D3-B303FBD83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EFCC4-1594-4A9A-88FD-1034D6F10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4F4AD-CC6D-404A-92F6-48B6816EC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82329-0ADE-41E0-80D2-FD7AE6E91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4322B-9A24-4872-9197-D5237107D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7308A-79DC-4CCE-B8BC-B0F376F38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FF078-F6AE-4CAC-9EC4-2276BC75F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F583B-EDD2-457D-91DF-8A8AF120F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2B749-5F40-464D-94C6-D87DF2926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6A45-D026-4EBF-A1F7-43F2AD1325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heckerboard(down)"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ppt_w+.3"/>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Scale>
                                      <p:cBhvr>
                                        <p:cTn id="90" dur="1000" fill="hold">
                                          <p:stCondLst>
                                            <p:cond delay="0"/>
                                          </p:stCondLst>
                                        </p:cTn>
                                        <p:tgtEl>
                                          <p:spTgt spid="5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55">
                                            <p:txEl>
                                              <p:pRg st="3" end="3"/>
                                            </p:txEl>
                                          </p:spTgt>
                                        </p:tgtEl>
                                      </p:cBhvr>
                                    </p:animMotion>
                                    <p:animEffect filter="fade"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