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071022-489F-4ABB-9D40-E4CD053668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944A9-40C8-4452-8E9A-FD0DC2348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46B9EE-B070-4B2A-8770-11BE4261D0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F24E6E-136C-4CD3-AB20-3DCDAFDAAD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9D946-5C7D-4628-AEB4-4AC1D8592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63210-E5E9-4418-832B-F8801A31E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7C574-3660-451B-9AA0-02CBCEC13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41D0D-89A7-45E3-BDE9-1EC032F21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A9ABC-8E45-4F14-9D6C-B655293DC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4824C-FD48-411C-BB0C-E435BCF37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A7E08-31C9-49EC-82E4-F9128CA96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57257-E257-475E-8577-84BC00349F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DD596-5031-44D3-8E73-91FCD12925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box(in)"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1000"/>
                                        <p:tgtEl>
                                          <p:spTgt spid="55">
                                            <p:txEl>
                                              <p:pRg st="2" end="2"/>
                                            </p:txEl>
                                          </p:spTgt>
                                        </p:tgtEl>
                                      </p:cBhvr>
                                    </p:animEffect>
                                    <p:anim calcmode="lin" valueType="num">
                                      <p:cBhvr additive="repl">
                                        <p:cTn id="84"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500" fill="hold"/>
                                        <p:tgtEl>
                                          <p:spTgt spid="55">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1" dur="500" fill="hold"/>
                                        <p:tgtEl>
                                          <p:spTgt spid="55">
                                            <p:txEl>
                                              <p:pRg st="3" end="3"/>
                                            </p:txEl>
                                          </p:spTgt>
                                        </p:tgtEl>
                                        <p:attrNameLst>
                                          <p:attrName>ppt_y</p:attrName>
                                        </p:attrNameLst>
                                      </p:cBhvr>
                                      <p:tavLst>
                                        <p:tav tm="0">
                                          <p:val>
                                            <p:strVal val="#ppt_y"/>
                                          </p:val>
                                        </p:tav>
                                        <p:tav tm="100000">
                                          <p:val>
                                            <p:strVal val="#ppt_y"/>
                                          </p:val>
                                        </p:tav>
                                      </p:tavLst>
                                    </p:anim>
                                    <p:anim calcmode="lin" valueType="num">
                                      <p:cBhvr additive="repl">
                                        <p:cTn id="92" dur="500" fill="hold"/>
                                        <p:tgtEl>
                                          <p:spTgt spid="55">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3" dur="500" fill="hold"/>
                                        <p:tgtEl>
                                          <p:spTgt spid="55">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4" dur="500"/>
                                        <p:tgtEl>
                                          <p:spTgt spid="5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