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27213-BCE8-47DC-B52E-9DD9B9248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22940-9384-40F6-98B2-022F53F44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3036D-6EA8-4831-8ABA-57BE64A4B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57B6B-4F64-4941-975E-EDD92950B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5E563-632E-423E-A855-C5BB2DC6B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7006C-BE2B-4814-B0AE-78A9B671B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B7A7D-0771-4ACC-A8C3-C2AD230D8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1A98E-B97A-462A-A50F-02CFC93BB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635CE-BB07-4E98-9617-E8C29DBDB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0AF00-7AC8-445E-B997-06140B2EA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A8C12-EBFB-4E10-9859-9F7D7FDC8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563AD-5FD2-4E13-BECE-793CC82E1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AA6CD-EE89-4612-8289-F06ACE5B5B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1000" fill="hold"/>
                                        <p:tgtEl>
                                          <p:spTgt spid="55">
                                            <p:txEl>
                                              <p:pRg st="2" end="2"/>
                                            </p:txEl>
                                          </p:spTgt>
                                        </p:tgtEl>
                                        <p:attrNameLst>
                                          <p:attrName>r</p:attrName>
                                        </p:attrNameLst>
                                      </p:cBhvr>
                                      <p:tavLst>
                                        <p:tav tm="0">
                                          <p:val>
                                            <p:strVal val="90"/>
                                          </p:val>
                                        </p:tav>
                                        <p:tav tm="100000">
                                          <p:val>
                                            <p:strVal val="0"/>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1000" fill="hold"/>
                                        <p:tgtEl>
                                          <p:spTgt spid="5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 dur="1000" fill="hold"/>
                                        <p:tgtEl>
                                          <p:spTgt spid="5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5" dur="10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6" dur="10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