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F9A76-0CD5-454E-A6EF-739201708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6F6A3-924F-4B56-90CC-2EF51E57E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38F06-02C9-4971-AAA2-D40783296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9E9F1-7992-40D3-9101-2B75D374C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A6F7C-09A1-4F7A-9E63-6F00B13E1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04CB6-AE22-40D6-A158-859AE5FB5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C6C25-28E0-433E-BC33-5504EF2FD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7CA50-F4AE-451C-A52F-2CA12E562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699F6-7EDB-4AF0-8F74-13378A77D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8F2DE-C31E-4D4D-8062-0D94514F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96EF7-52F9-4BAC-BCA0-CB31B7BE3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4A385-B897-44F2-9681-5E49EC284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60FE-B957-40B3-A469-61C8A36A8A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1000"/>
                                        <p:tgtEl>
                                          <p:spTgt spid="55">
                                            <p:txEl>
                                              <p:pRg st="3" end="3"/>
                                            </p:txEl>
                                          </p:spTgt>
                                        </p:tgtEl>
                                      </p:cBhvr>
                                    </p:animEffect>
                                    <p:anim calcmode="lin" valueType="num">
                                      <p:cBhvr additive="repl">
                                        <p:cTn id="91"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2"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