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2C783-032F-4FFF-BC54-2D17F833C9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A2009-DBB2-4E84-BABF-85E33062E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9069D5-8657-4B24-B838-1568954056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68ADE-8C12-48DF-A9E3-92BF72689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5E430-CB6C-4154-853B-B1D127FCD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13FF0-B5D4-4A2B-9086-502EBE2B7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8863D-E953-4386-89C9-92039DCEB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1FB99-DFB7-43F3-B94B-18E7E3F24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ECE97-BE8C-4758-8B32-DF1E9C181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3F642-C5CC-4BB8-87F6-EE464C8D4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D8B23-1D57-4AE5-A402-C0CABC48F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F7ABB-9FAB-40D7-91DA-5CDF9A34CF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1A50E-48E4-44E4-B0B2-5EE2AA5671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4*#ppt_w"/>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4*#ppt_h"/>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Effect filter="wheel(1)" transition="in">
                                      <p:cBhvr additive="repl">
                                        <p:cTn id="84" dur="2000"/>
                                        <p:tgtEl>
                                          <p:spTgt spid="55">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 calcmode="lin" valueType="num">
                                      <p:cBhvr additive="repl">
                                        <p:cTn id="89"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0"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1" dur="500"/>
                                        <p:tgtEl>
                                          <p:spTgt spid="5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