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0900F-7AFF-4CAC-8DB2-45D3044AB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EE0D2-E8BC-4BD7-A55C-4F9E74E82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9FDD6-A5B9-4572-976A-D8FE23289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2BE8C-77D2-452E-81B0-6F05D0D63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714B5-E32F-474F-9B31-9D25BA8D0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DF74F-4FF4-4718-ACE4-85CC1FE7E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AC4CE-AD9A-42B1-85DC-8ADA68F91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8570C-3396-4156-BD25-908273B55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5C9DA-790E-41B4-B992-B674094FF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D06E7-C5EC-4C58-80C6-C1FE57047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5576B-2EF1-4138-8438-8CEC2EA92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C87A7-5FB8-4644-8600-0CBB6DA94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C0F1-BE7F-42E9-BC9A-F46A97607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1000"/>
                                        <p:tgtEl>
                                          <p:spTgt spid="55">
                                            <p:txEl>
                                              <p:pRg st="2" end="2"/>
                                            </p:txEl>
                                          </p:spTgt>
                                        </p:tgtEl>
                                      </p:cBhvr>
                                    </p:animEffect>
                                    <p:anim calcmode="lin" valueType="num">
                                      <p:cBhvr additive="repl">
                                        <p:cTn id="87"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