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8B5A9-A0AE-480B-BFE3-C380C189E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4511-E22B-4CE9-97A7-F756C0470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1A4EB-7F72-464D-8378-12A8D7D40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47F17-B0DF-4421-8A51-6E961F37D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7BA8D-43C8-45B0-BCD9-F5981B0D7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A64CD-B96C-4319-BF75-6999228A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24E19-7120-484B-8411-1FD272D6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FE03A-35EA-43F3-A9DB-B96C78E4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FCBF1-2E59-4477-8DC5-FB3D21CA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1DAD-68DF-48CB-A7D0-9746242D1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8439-2232-4819-959C-3555103C0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049D8-6E63-4AA4-951D-98BDA141A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E4A7-9EA5-4D88-AD9D-0BC11E810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4" dur="50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fade" transition="in">
                                      <p:cBhvr additive="repl">
                                        <p:cTn id="89" dur="2000"/>
                                        <p:tgtEl>
                                          <p:spTgt spid="55">
                                            <p:txEl>
                                              <p:pRg st="3" end="3"/>
                                            </p:txEl>
                                          </p:spTgt>
                                        </p:tgtEl>
                                      </p:cBhvr>
                                    </p:animEffect>
                                    <p:anim calcmode="lin" valueType="num">
                                      <p:cBhvr additive="repl">
                                        <p:cTn id="90" dur="2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91" dur="2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2000" fill="hold"/>
                                        <p:tgtEl>
                                          <p:spTgt spid="55">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