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E7845-C1E6-44BA-A8B7-F3944186A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1F009-D798-4A4F-AB92-909E89780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97AFD-6168-4DBC-A393-E4720658E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F1F3A-8C0A-4901-8DF3-575F43752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E0367-D889-4ACD-BE0C-F2B0F6C3F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E9547-13DC-42F7-A257-8BEA9DF2D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D8EF8-9EC5-452B-B1FF-D1D72E259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6F41A-35D3-4F4D-B6A0-06E569DC2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50C64-2843-4483-A50A-EA825045E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EDBB0-2B3C-4BE0-8F8B-77FC78FF6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68E35-7949-47DE-99A0-A798AE88E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370DE-2042-4DB0-9127-0369EA41D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E962E-0490-43A5-B0FE-8E4ECB3D29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anim calcmode="lin" valueType="num">
                                      <p:cBhvr additive="repl">
                                        <p:cTn id="86"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3" dur="5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