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4EAC5-797B-4E45-8881-43ED2248E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ADB54-AE54-4981-9CE9-773496A12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4D95A-97F9-4AE2-9EA5-F935E754D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B1D28-B126-448A-9982-32BCB3918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AE84C-EEF0-472D-AC19-9AF276B2B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645F4-D667-4753-8893-E68B280C6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2045E-C399-4FB3-8414-DAD311146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9EC10-3128-45C8-8705-C4352BA92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35593-C162-4DE6-B3A2-2905CE1F8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9EBFA-ACAE-4AD6-9CD9-A5032DA06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4CB81-059B-41CF-8093-184C49879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D352E-D6D8-43E7-BF01-AF153117A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A3B49-3880-4F78-BF39-A6EDD1C64D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plus(in)"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wedge" transition="in">
                                      <p:cBhvr additive="repl">
                                        <p:cTn id="83" dur="20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Scale>
                                      <p:cBhvr>
                                        <p:cTn id="88" dur="1000" fill="hold">
                                          <p:stCondLst>
                                            <p:cond delay="0"/>
                                          </p:stCondLst>
                                        </p:cTn>
                                        <p:tgtEl>
                                          <p:spTgt spid="5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9" dur="1000" fill="hold">
                                          <p:stCondLst>
                                            <p:cond delay="0"/>
                                          </p:stCondLst>
                                        </p:cTn>
                                        <p:tgtEl>
                                          <p:spTgt spid="55">
                                            <p:txEl>
                                              <p:pRg st="3" end="3"/>
                                            </p:txEl>
                                          </p:spTgt>
                                        </p:tgtEl>
                                      </p:cBhvr>
                                    </p:animMotion>
                                    <p:animEffect filter="fade" transition="in">
                                      <p:cBhvr additive="repl">
                                        <p:cTn id="90" dur="10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