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CA88B-4365-42E9-B540-1335CD89B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959A8-FD95-40A2-B2A8-AB4AC4014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01D5A-38B8-44D5-B7BB-7452D5031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CBD9C-E444-4083-B794-6E06DF442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17338-E1C8-4EDE-95CE-30DE70B46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D8BB0-C292-4779-886A-DAB11463F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DA97C-755B-43E6-8B2E-21F13F664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31080-77FC-4D05-8557-A78951CDB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844A4-B275-43FE-B877-208D475DB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67538-B6E9-4DD1-BD36-906522276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B4433-70C4-426E-9110-8EF11EEAF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601FA-77A9-4A15-A2D0-D3B82F339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80FD-7748-417B-B178-CAB03F87FA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55">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wedge" transition="in">
                                      <p:cBhvr additive="repl">
                                        <p:cTn id="86" dur="2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discrete" valueType="clr">
                                      <p:cBhvr additive="repl">
                                        <p:cTn id="91" dur="80"/>
                                        <p:tgtEl>
                                          <p:spTgt spid="5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92" dur="80"/>
                                        <p:tgtEl>
                                          <p:spTgt spid="55">
                                            <p:txEl>
                                              <p:pRg st="3" end="3"/>
                                            </p:txEl>
                                          </p:spTgt>
                                        </p:tgtEl>
                                        <p:attrNameLst>
                                          <p:attrName>fillcolor</p:attrName>
                                        </p:attrNameLst>
                                      </p:cBhvr>
                                      <p:tavLst>
                                        <p:tav tm="0">
                                          <p:val>
                                            <p:strVal val="rgb(-103,51,51)"/>
                                          </p:val>
                                        </p:tav>
                                        <p:tav tm="50000">
                                          <p:val>
                                            <p:strVal val="rgb(-103,-103,0)"/>
                                          </p:val>
                                        </p:tav>
                                      </p:tavLst>
                                    </p:anim>
                                    <p:set>
                                      <p:cBhvr>
                                        <p:cTn id="93" dur="80"/>
                                        <p:tgtEl>
                                          <p:spTgt spid="55">
                                            <p:txEl>
                                              <p:pRg st="3" end="3"/>
                                            </p:txEl>
                                          </p:spTgt>
                                        </p:tgtEl>
                                        <p:attrNameLst>
                                          <p:attrName>fill.type</p:attrName>
                                        </p:attrNameLst>
                                      </p:cBhvr>
                                      <p:to>
                                        <p:strVal val="solid"/>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