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2DB39-2E8F-469F-8DF4-5BC68716E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CF55B-EBD1-44AC-BE06-BB35C1A6E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D4979-F73C-4E8D-A958-D52C50C93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0EEC3-741B-4F52-81DA-7B0FA7FC2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88241-2EDB-48DD-B868-F1B4519E1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8BCEF-9247-4D04-B17C-FCAE0C5F9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52F86-86CF-427C-ABA0-ACC9172AA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F45A7-4615-4E87-8406-BFFB13870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896C2-1CB3-4890-851B-080D44B3F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77417-E898-4A38-ABFB-1C43BDD07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E6741-2A70-4C7E-8827-558942EB5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426D4-084F-4767-AFB3-88325AC16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81E1F-9923-4AE4-B6CA-D0EB0028D0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x</p:attrName>
                                        </p:attrNameLst>
                                      </p:cBhvr>
                                      <p:tavLst>
                                        <p:tav tm="0">
                                          <p:val>
                                            <p:strVal val="#ppt_x-.2"/>
                                          </p:val>
                                        </p:tav>
                                        <p:tav tm="100000">
                                          <p:val>
                                            <p:strVal val="#ppt_x"/>
                                          </p:val>
                                        </p:tav>
                                      </p:tavLst>
                                    </p:anim>
                                    <p:anim calcmode="lin" valueType="num">
                                      <p:cBhvr additive="repl">
                                        <p:cTn id="79" dur="1000" fill="hold"/>
                                        <p:tgtEl>
                                          <p:spTgt spid="55">
                                            <p:txEl>
                                              <p:pRg st="1" end="1"/>
                                            </p:txEl>
                                          </p:spTgt>
                                        </p:tgtEl>
                                        <p:attrNameLst>
                                          <p:attrName>ppt_y</p:attrName>
                                        </p:attrNameLst>
                                      </p:cBhvr>
                                      <p:tavLst>
                                        <p:tav tm="0">
                                          <p:val>
                                            <p:strVal val="#ppt_y"/>
                                          </p:val>
                                        </p:tav>
                                        <p:tav tm="100000">
                                          <p:val>
                                            <p:strVal val="#ppt_y"/>
                                          </p:val>
                                        </p:tav>
                                      </p:tavLst>
                                    </p:anim>
                                    <p:animEffect filter="wipe(right)"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2" dur="1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