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F6FFB-7DC6-4749-A3C3-C1E6F80A3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ABD7E-226F-4241-8FBD-4DCA6246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F0DC1-D00F-423E-8455-9D8F941C1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C8B91-CD74-4BA8-B674-B7E644B3C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F54D7-4573-46F9-81D6-1D4793BCB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71487-1E65-43EC-9015-A6DF00289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27A18-EC19-417B-970E-51C79109C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F70FA-1CFE-4591-98D4-9484F4364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F5B9E-CAFC-4B30-A9F6-5C1F36F0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6E598-F0FA-4A89-8ED1-633B3E998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CA286-CEED-401D-85D7-52145FC8F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73BE-81EC-4FF9-8A37-CC35DF31B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28FA-C5BD-43E6-8231-7CD1662980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800"/>
                                        <p:tgtEl>
                                          <p:spTgt spid="55">
                                            <p:txEl>
                                              <p:pRg st="2" end="2"/>
                                            </p:txEl>
                                          </p:spTgt>
                                        </p:tgtEl>
                                      </p:cBhvr>
                                    </p:animEffect>
                                    <p:anim calcmode="lin" valueType="num">
                                      <p:cBhvr additive="repl">
                                        <p:cTn id="86"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7"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88"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6"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7"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8" dur="10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