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2BAAD-7090-48B8-B5D1-7719E0060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6A3D6-35B3-4664-A8EA-82D1B143A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1972B-837D-4756-B655-29B143FB9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FE08F-37C0-4116-80C9-0C86F1516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AFF19-E59E-4738-A2D2-567BDE111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396CA-A436-4130-B0BB-957B11018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26C3A-D468-4380-B102-97FEB87F4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7A759-7FC0-4F46-8452-810DBB16F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C82C9-937C-4190-816B-E77921038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5FB07-F283-42E7-B904-1F7E5ABF0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19F29-1BB3-4C5A-BBF3-AAFC72021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214DF-D678-4555-8C86-01DF50E54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54E7-ED4A-4D92-B9CB-AB747D082A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fade" transition="in">
                                      <p:cBhvr additive="repl">
                                        <p:cTn id="82" dur="1000"/>
                                        <p:tgtEl>
                                          <p:spTgt spid="55">
                                            <p:txEl>
                                              <p:pRg st="2" end="2"/>
                                            </p:txEl>
                                          </p:spTgt>
                                        </p:tgtEl>
                                      </p:cBhvr>
                                    </p:animEffect>
                                    <p:anim calcmode="lin" valueType="num">
                                      <p:cBhvr additive="repl">
                                        <p:cTn id="83"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strips(upRight)" transition="in">
                                      <p:cBhvr additive="repl">
                                        <p:cTn id="89" dur="5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