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D8C1B-188A-4597-9C4D-1DE23AAD6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8E911-1913-43CC-8203-AF9AFC9CC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4FF8D-FFB3-45C6-936F-BA31E78F6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E4C93-3D50-4F5F-848F-B80366F5F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EFD1-A469-4F7B-A087-2265B35FB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B99B9-F77A-4F80-B1BC-4AA620F07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77EE4-AE3D-486A-A400-57DCEA33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740A5-A84D-43AD-8977-60BCE6E09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E900-DECA-47F0-A0D3-8FE84E51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1FE6-873A-4914-B08C-5A32156C8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263B-E4A7-45C4-8215-39E422B5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61D8-F44E-421A-9052-14A46C2E8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5055-280E-4EB7-B108-029291675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800"/>
                                        <p:tgtEl>
                                          <p:spTgt spid="55">
                                            <p:txEl>
                                              <p:pRg st="2" end="2"/>
                                            </p:txEl>
                                          </p:spTgt>
                                        </p:tgtEl>
                                      </p:cBhvr>
                                    </p:animEffect>
                                    <p:anim calcmode="lin" valueType="num">
                                      <p:cBhvr additive="repl">
                                        <p:cTn id="84"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5"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86"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5"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