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FEBB1-3A43-43F9-8751-108AAE7A1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951BE-BA29-4D9F-BFAC-9304B8FAA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1D7B6-83AB-4684-B8BD-960EDEADE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A93A3-CB49-4AAF-9A03-44D7BCBA2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43431-8A24-4932-B699-01805678F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D5654-ED26-44BC-8E55-B1370BA7C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A5C34-671C-4722-B172-93B3792E9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ADC16-DC18-48CB-870C-66E76AA2D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0025B-A3C0-4814-A1F5-B6D754C96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6C144-1D9E-4353-B4B8-6EA6EC271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8043F-ED7E-4AB7-B3EC-207EC7150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12043-F86D-4BC7-A581-0623E75A8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F2D8-C148-40A9-88B8-D28DFC668C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anim calcmode="lin" valueType="num">
                                      <p:cBhvr additive="repl">
                                        <p:cTn id="86"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2000"/>
                                        <p:tgtEl>
                                          <p:spTgt spid="55">
                                            <p:txEl>
                                              <p:pRg st="3" end="3"/>
                                            </p:txEl>
                                          </p:spTgt>
                                        </p:tgtEl>
                                      </p:cBhvr>
                                    </p:animEffect>
                                    <p:anim calcmode="lin" valueType="num">
                                      <p:cBhvr additive="repl">
                                        <p:cTn id="93"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4"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