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75E0F-2D63-43F0-9010-2B0DB412E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AB87B-377B-4EF0-A80C-4932FE3E2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4321C-379F-46E4-A6F0-12EA1D59D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AB60F-3635-4438-B4B8-CBFF74290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F3711-FD84-4D05-A4E7-135318CEC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B4679-6F26-476C-AC05-7F3C291E4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1E506-E8F1-44C7-8C49-08F7E57A4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8E55B-8195-4213-93BF-B08392CEF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80CB8-907D-404F-B016-C23C2DB77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857CB-D631-450D-AF01-793FA7570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EC914-DFC3-4FFC-8ED7-2383DBA34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DE6DF-4356-498A-82A6-8A7D98D1F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8F603-FD64-4F12-827F-D71C9A42B5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9" dur="1000" fill="hold"/>
                                        <p:tgtEl>
                                          <p:spTgt spid="55">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animEffect filter="fade" transition="in">
                                      <p:cBhvr additive="repl">
                                        <p:cTn id="81" dur="10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fade" transition="in">
                                      <p:cBhvr additive="repl">
                                        <p:cTn id="86" dur="2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500" fill="hold"/>
                                        <p:tgtEl>
                                          <p:spTgt spid="55">
                                            <p:txEl>
                                              <p:pRg st="3" end="3"/>
                                            </p:txEl>
                                          </p:spTgt>
                                        </p:tgtEl>
                                        <p:attrNameLst>
                                          <p:attrName>ppt_w</p:attrName>
                                        </p:attrNameLst>
                                      </p:cBhvr>
                                      <p:tavLst>
                                        <p:tav tm="0">
                                          <p:val>
                                            <p:strVal val="4*#ppt_w"/>
                                          </p:val>
                                        </p:tav>
                                        <p:tav tm="100000">
                                          <p:val>
                                            <p:strVal val="#ppt_w"/>
                                          </p:val>
                                        </p:tav>
                                      </p:tavLst>
                                    </p:anim>
                                    <p:anim calcmode="lin" valueType="num">
                                      <p:cBhvr additive="repl">
                                        <p:cTn id="92" dur="500" fill="hold"/>
                                        <p:tgtEl>
                                          <p:spTgt spid="55">
                                            <p:txEl>
                                              <p:pRg st="3" end="3"/>
                                            </p:txEl>
                                          </p:spTgt>
                                        </p:tgtEl>
                                        <p:attrNameLst>
                                          <p:attrName>ppt_h</p:attrName>
                                        </p:attrNameLst>
                                      </p:cBhvr>
                                      <p:tavLst>
                                        <p:tav tm="0">
                                          <p:val>
                                            <p:strVal val="4*#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