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2E624-A81B-44CA-B4D0-8B1BF6E2C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51780-23EA-4A30-81B8-427EC8A26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0ECC9-58C8-42BE-B11B-FB321EFFF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9E7FF-63DA-461F-A249-0F00F9EEC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BE0F8-A244-42EE-A231-E6060367F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A986D-3443-41C2-AE62-1ECE0EFC4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1321A-1402-4A9F-8576-81E4EDDE8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DC250-8906-4028-B2AA-35915CE2D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F8BF1-2B7F-47A4-ACE4-8C9D3A92A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A8953-1124-4101-9947-4811DD767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DD6C1-10B5-4444-97C4-31AEB5292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1B1FD-EBF8-4B13-A031-27E8C8091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DFB4C-E8AE-4E84-AD4F-1C31997BA5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6" dur="500" fill="hold"/>
                                        <p:tgtEl>
                                          <p:spTgt spid="5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7" dur="500" fill="hold"/>
                                        <p:tgtEl>
                                          <p:spTgt spid="5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8"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5000" fill="hold"/>
                                        <p:tgtEl>
                                          <p:spTgt spid="55">
                                            <p:txEl>
                                              <p:pRg st="3" end="3"/>
                                            </p:txEl>
                                          </p:spTgt>
                                        </p:tgtEl>
                                        <p:attrNameLst>
                                          <p:attrName>ppt_x</p:attrName>
                                        </p:attrNameLst>
                                      </p:cBhvr>
                                      <p:tavLst>
                                        <p:tav tm="0">
                                          <p:val>
                                            <p:strVal val="1+#ppt_w/2"/>
                                          </p:val>
                                        </p:tav>
                                        <p:tav tm="100000">
                                          <p:val>
                                            <p:strVal val="#ppt_x"/>
                                          </p:val>
                                        </p:tav>
                                      </p:tavLst>
                                    </p:anim>
                                    <p:anim calcmode="lin" valueType="num">
                                      <p:cBhvr additive="repl">
                                        <p:cTn id="94" dur="50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