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819EA-53B5-4FC0-B089-6F0F8A30F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E0E0-C12E-4A80-9127-46CDE940B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77E9B-0E47-43AC-8E82-D37E64569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9C7A-E096-4CD2-B627-F5E1DC560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7E7A2-F3D6-4E06-BDAD-F5B6D13A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64734-E908-4E32-AFFD-AE6D086C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3FDC-017E-446B-B45A-09590FFD8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705F-AA48-4786-8204-E7842EE1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7D59B-907F-4218-8F3D-0A696DC51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AB1C-674C-43F2-B22A-03409A82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0A2B1-50BF-4EB7-AA9A-8A5781C9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4302-68B5-4F00-AF0A-FFB5738FA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487E-559E-4692-882B-1373C62A4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 calcmode="lin" valueType="num">
                                      <p:cBhvr additive="repl">
                                        <p:cTn id="88"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