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9ABCC-2C50-4AD0-B1C9-0223AA180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DB5CA-93A9-4924-9A75-C861BF45D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FAD81-7552-4E5B-8E12-DD54ECA14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249CE-6251-4A7B-B728-6F998CE96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4C052-41EB-4CAC-B719-5069BF659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0E5AF-7FA7-4A9C-975D-39F5DA295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79BC6-FE0B-4783-AD4D-A390ECF9F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CE715-C476-42EF-B17C-D7C8C502E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8F052-4D76-43E3-95B3-357BF306D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32CE5-0AA2-444C-AAF2-FA16A076C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75833-6B75-4929-BB72-7C6FD8F23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45A07-CE4D-4B38-BF98-FAA28B6F6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67B8-3FA6-44C8-ADD1-13B00B9BB0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set>
                                      <p:cBhvr>
                                        <p:cTn id="89" dur="455" fill="hold">
                                          <p:stCondLst>
                                            <p:cond delay="0"/>
                                          </p:stCondLst>
                                        </p:cTn>
                                        <p:tgtEl>
                                          <p:spTgt spid="55">
                                            <p:txEl>
                                              <p:pRg st="3" end="3"/>
                                            </p:txEl>
                                          </p:spTgt>
                                        </p:tgtEl>
                                        <p:attrNameLst>
                                          <p:attrName>r</p:attrName>
                                        </p:attrNameLst>
                                      </p:cBhvr>
                                      <p:to>
                                        <p:strVal val="-45"/>
                                      </p:to>
                                    </p:set>
                                    <p:anim calcmode="lin" valueType="num">
                                      <p:cBhvr additive="repl">
                                        <p:cTn id="90"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1"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2"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3"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