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CCEA3-CB32-4F91-8ED3-464C0EE68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592FA-7CF5-43AF-9A9A-C515F915A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2C610-1946-4236-8934-431C4B0CC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902FA-84AD-425D-8774-38141DE86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88ED0-0D13-4F40-A421-E57DB3FCB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E9D55-64FA-44EC-8C8F-740DBB7B1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BF54D-1501-4FA4-9DEA-314785560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CFEB9-2671-4190-B088-B3DF29601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1CB62-857B-4BE4-AFCB-44DBC78B6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59952-1C1F-45B1-86E1-3F76ECEB6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E74E7-CB1E-4EBA-89A0-EC94F8AB0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04060-B5C3-4E16-9418-04667511B0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E3097-6B3C-4F97-9A90-E70B03D258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ipe(down)"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diamond(in)" transition="in">
                                      <p:cBhvr additive="repl">
                                        <p:cTn id="83" dur="20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Effect filter="fade" transition="in">
                                      <p:cBhvr additive="repl">
                                        <p:cTn id="88" dur="2000"/>
                                        <p:tgtEl>
                                          <p:spTgt spid="55">
                                            <p:txEl>
                                              <p:pRg st="3" end="3"/>
                                            </p:txEl>
                                          </p:spTgt>
                                        </p:tgtEl>
                                      </p:cBhvr>
                                    </p:animEffect>
                                    <p:anim calcmode="lin" valueType="num">
                                      <p:cBhvr additive="repl">
                                        <p:cTn id="89"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0"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