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23AD3-B3F7-46F9-8323-433AA93F1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10A94-4FBD-405B-9BB7-1305D649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F85C7-E245-4332-A3CE-2D8136B6D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D913E-9421-444B-9C08-1DA88C5D5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3E6B-3E16-4D84-A42B-D55642C11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82F0E-E666-4A9F-83D5-C9893056E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8FFBC-4592-4709-9842-96C59D19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D3E8B-35AD-487F-8247-CDE2405CE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F4668-82AB-4E15-979D-9075EE47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98F0-2CC6-4EBE-B588-165FC308B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B44D-59B6-4DA9-9A56-FDFE05CEA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98263-0345-49F9-9DBE-7864CA78C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C051-E6CD-4EAC-BAF8-07F75C987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3"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4" dur="1000" fill="hold"/>
                                        <p:tgtEl>
                                          <p:spTgt spid="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5" dur="1000" fill="hold"/>
                                        <p:tgtEl>
                                          <p:spTgt spid="5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