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4D741-0F3E-4D9D-9E2F-C31746901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9B3D5-1675-4580-9337-4AD5847D3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0C1C7-C561-477B-9F1D-84CBA4519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579D3-C45D-48F6-9738-CDC51BB1C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66692-A096-4BBF-8C5A-D39CFCFF8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3530A-0EC2-4EFD-8E0B-6A5A18F63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BB68D-111B-445A-90A7-46C186195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832C1-5984-4665-A07B-78DE9343A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BA792-F5DB-41FE-B0D8-181CBD24E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63697-C454-480F-866D-6EB3233BA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88F23-32EF-4A4B-A991-DDAA11D3B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624E-1729-41B5-A4C3-371D1C57E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136F-37D4-44BF-8412-9D82863AF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set>
                                      <p:cBhvr>
                                        <p:cTn id="93" dur="455" fill="hold">
                                          <p:stCondLst>
                                            <p:cond delay="0"/>
                                          </p:stCondLst>
                                        </p:cTn>
                                        <p:tgtEl>
                                          <p:spTgt spid="55">
                                            <p:txEl>
                                              <p:pRg st="3" end="3"/>
                                            </p:txEl>
                                          </p:spTgt>
                                        </p:tgtEl>
                                        <p:attrNameLst>
                                          <p:attrName>r</p:attrName>
                                        </p:attrNameLst>
                                      </p:cBhvr>
                                      <p:to>
                                        <p:strVal val="-45"/>
                                      </p:to>
                                    </p:set>
                                    <p:anim calcmode="lin" valueType="num">
                                      <p:cBhvr additive="repl">
                                        <p:cTn id="94"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5"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6"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7"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