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2BE76-57BA-429D-8C6C-660435D1C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785A9-20BF-4363-88C5-C4E5A9D24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94C0C-986E-466C-9C5D-2758AF015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7C3E7-637B-4FEC-A1E6-FEB8ADEB9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E5B51-8BAA-489A-816A-0EBFEF0E8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22175-6DB9-4FCF-99C3-7A0730C26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463EE-9CA7-4C37-B439-9910E4A5A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6DB88-56C0-4E5B-AFBE-3E0345D92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E3B01-9B94-437B-A1F8-091F83B29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9E19F-C4F1-46B4-B7BC-EE8097992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87CB5-4F35-46C6-8A03-1F5B7568A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50EC2-5299-4712-B88E-87E2A49C7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CD21-D42C-4C0E-8592-AAF1239AFC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
                                        <p:tgtEl>
                                          <p:spTgt spid="55">
                                            <p:txEl>
                                              <p:pRg st="1" end="1"/>
                                            </p:txEl>
                                          </p:spTgt>
                                        </p:tgtEl>
                                      </p:cBhvr>
                                    </p:animEffect>
                                    <p:anim calcmode="lin" valueType="num">
                                      <p:cBhvr additive="repl">
                                        <p:cTn id="79" dur="4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400" fill="hold"/>
                                        <p:tgtEl>
                                          <p:spTgt spid="55">
                                            <p:txEl>
                                              <p:pRg st="1" end="1"/>
                                            </p:txEl>
                                          </p:spTgt>
                                        </p:tgtEl>
                                        <p:attrNameLst>
                                          <p:attrName>ppt_y</p:attrName>
                                        </p:attrNameLst>
                                      </p:cBhvr>
                                      <p:tavLst>
                                        <p:tav tm="0">
                                          <p:val>
                                            <p:strVal val="#ppt_y+0.31"/>
                                          </p:val>
                                        </p:tav>
                                        <p:tav tm="100000">
                                          <p:val>
                                            <p:strVal val="#ppt_y+0.31"/>
                                          </p:val>
                                        </p:tav>
                                      </p:tavLst>
                                    </p:anim>
                                    <p:anim calcmode="lin" valueType="num">
                                      <p:cBhvr additive="repl">
                                        <p:cTn id="81" dur="600" fill="hold">
                                          <p:stCondLst>
                                            <p:cond delay="400"/>
                                          </p:stCondLst>
                                        </p:cTn>
                                        <p:tgtEl>
                                          <p:spTgt spid="5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 dur="600" fill="hold">
                                          <p:stCondLst>
                                            <p:cond delay="400"/>
                                          </p:stCondLst>
                                        </p:cTn>
                                        <p:tgtEl>
                                          <p:spTgt spid="5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 calcmode="lin" valueType="num">
                                      <p:cBhvr additive="repl">
                                        <p:cTn id="87"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8"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9" dur="10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plus(out)" transition="in">
                                      <p:cBhvr additive="repl">
                                        <p:cTn id="94" dur="2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