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F44EE-63A5-4C30-A49A-99C3CAB40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780B6-45E6-4BB6-A699-10286CBA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14CD2-59D8-42F3-82C1-1A7073323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51348-9983-4951-A102-47927524D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1966-A250-4E5F-B640-7FF535EA8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C01B0-B889-4EC2-8740-6E58B1FB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19D6-A419-47AA-B9C4-A2694C7B7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29BE3-C135-4A65-AE29-243AD7858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7CAC9-20E4-4B89-B448-51FF7CB01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34E3-1E19-4F98-9650-9B69C0B8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AF32-1C36-4CB0-A2B8-C538E1A8C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1696-FF77-4037-8837-983E25822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C99D-41D2-4538-A612-9DABFF95D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7"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8"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set>
                                      <p:cBhvr>
                                        <p:cTn id="93" dur="455" fill="hold">
                                          <p:stCondLst>
                                            <p:cond delay="0"/>
                                          </p:stCondLst>
                                        </p:cTn>
                                        <p:tgtEl>
                                          <p:spTgt spid="55">
                                            <p:txEl>
                                              <p:pRg st="3" end="3"/>
                                            </p:txEl>
                                          </p:spTgt>
                                        </p:tgtEl>
                                        <p:attrNameLst>
                                          <p:attrName>r</p:attrName>
                                        </p:attrNameLst>
                                      </p:cBhvr>
                                      <p:to>
                                        <p:strVal val="-45"/>
                                      </p:to>
                                    </p:set>
                                    <p:anim calcmode="lin" valueType="num">
                                      <p:cBhvr additive="repl">
                                        <p:cTn id="94"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5"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6"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